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12C-89CA-4157-8163-E236C7FD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C22-B447-4005-A0EA-69B96BC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DB6-923C-44E6-8329-067DB91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071-05C8-4F9C-8148-9218D94D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3F9-4918-4061-9607-A446CB7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17A-2AE7-42CD-B313-2187FF5C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D13-0CBE-420E-A6BF-A024613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C5D-E746-4758-B0D4-98D972D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6C9-FAFB-4517-94BD-574243A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88F-8CEF-43FA-AD8F-8DA8F4F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2FB-47CE-4501-B9E3-CA510F3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C4D-4A7D-43E2-922B-B2B04C7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BC42-B40B-461F-9B8E-CC29E79C0A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3.wmf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ournée typ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ypical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petit déjeu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527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116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169704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69960" y="4168800"/>
            <a:ext cx="1812960" cy="172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61120" y="3938760"/>
            <a:ext cx="261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brosse les 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1134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quitte la maison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3961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le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vais à l’école/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ends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176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195408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2087640" cy="195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953080" cy="1935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44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’arrive au collè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85920" y="1600200"/>
            <a:ext cx="477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travaill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105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éje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2483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rév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57200" y="1600200"/>
            <a:ext cx="642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ntre à la m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09840" y="1600200"/>
            <a:ext cx="252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24080" y="1600200"/>
            <a:ext cx="23050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61080" y="1790640"/>
            <a:ext cx="1812960" cy="1803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565280" y="4130640"/>
            <a:ext cx="1822320" cy="1803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58080" y="3938760"/>
            <a:ext cx="1218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goût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mon goû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6087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fais mes devo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81240" y="1600200"/>
            <a:ext cx="478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dîn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mon dî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46400" y="1743120"/>
            <a:ext cx="4651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regarde la tél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5480" y="2416320"/>
            <a:ext cx="4613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89040" y="2062080"/>
            <a:ext cx="1774800" cy="126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13400" y="1600200"/>
            <a:ext cx="230832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76200" y="3938760"/>
            <a:ext cx="240048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23000" y="3938760"/>
            <a:ext cx="3487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dés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43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681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è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71760" y="1649520"/>
            <a:ext cx="599904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79520" y="1600200"/>
            <a:ext cx="4583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384720" cy="193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0808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59480" y="3938760"/>
            <a:ext cx="2214360" cy="218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1557360"/>
            <a:ext cx="2054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réve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è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l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un b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’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if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petit déjeu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brosse les 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prends le b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vais à l’éc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rrive au collè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’ai 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éje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ntre à la ma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goû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fais mes devoi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î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regarde la té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déshabi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me cou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e d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9280" y="189000"/>
          <a:ext cx="8785440" cy="6750000"/>
        </p:xfrm>
        <a:graphic>
          <a:graphicData uri="http://schemas.openxmlformats.org/drawingml/2006/table">
            <a:tbl>
              <a:tblPr/>
              <a:tblGrid>
                <a:gridCol w="1465200"/>
                <a:gridCol w="1462320"/>
                <a:gridCol w="1541520"/>
                <a:gridCol w="1388880"/>
                <a:gridCol w="1462320"/>
                <a:gridCol w="14652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812000" y="5229360"/>
            <a:ext cx="609840" cy="601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5157720"/>
            <a:ext cx="863640" cy="690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348000" y="5229360"/>
            <a:ext cx="1130400" cy="645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300720" y="3573360"/>
            <a:ext cx="982800" cy="698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667640" y="3429000"/>
            <a:ext cx="934920" cy="885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68360" y="5157720"/>
            <a:ext cx="771480" cy="703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1835280" y="5157720"/>
            <a:ext cx="1110960" cy="696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684360" y="357336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1979640" y="3500280"/>
            <a:ext cx="792000" cy="787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3419640" y="3500280"/>
            <a:ext cx="792000" cy="784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>
            <a:off x="5076720" y="3429000"/>
            <a:ext cx="519120" cy="930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3276720" y="1844640"/>
            <a:ext cx="1152360" cy="525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>
            <a:off x="4859280" y="1700280"/>
            <a:ext cx="792360" cy="74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6084720" y="1700280"/>
            <a:ext cx="1224000" cy="80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7667640" y="170028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6227640" y="333360"/>
            <a:ext cx="863640" cy="546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7956720" y="189000"/>
            <a:ext cx="601560" cy="792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468360" y="1700280"/>
            <a:ext cx="790560" cy="752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>
            <a:off x="1979640" y="1773360"/>
            <a:ext cx="807840" cy="67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>
            <a:off x="324000" y="260280"/>
            <a:ext cx="1041120" cy="733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2"/>
          <a:stretch/>
        </p:blipFill>
        <p:spPr>
          <a:xfrm>
            <a:off x="1979640" y="404640"/>
            <a:ext cx="696960" cy="5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3"/>
          <a:stretch/>
        </p:blipFill>
        <p:spPr>
          <a:xfrm>
            <a:off x="3492360" y="260280"/>
            <a:ext cx="739800" cy="73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4"/>
          <a:stretch/>
        </p:blipFill>
        <p:spPr>
          <a:xfrm>
            <a:off x="5076720" y="189000"/>
            <a:ext cx="7700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 réve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m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n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vo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l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les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réveill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95280" y="160020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a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ake up (singul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wake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ke up (in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ke up (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ake up (pl. or for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ke up (mascu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ke up (femin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prends une douche/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e me dou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908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rle-moi de ta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310536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6520" y="1600200"/>
            <a:ext cx="2962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584360" y="4141800"/>
            <a:ext cx="1782720" cy="177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13280" y="4119480"/>
            <a:ext cx="17082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prends un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498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’hab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286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e me coi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4753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6:57:48Z</dcterms:created>
  <dc:creator> Cecile Gennevieve</dc:creator>
  <dc:description/>
  <dc:language>en-US</dc:language>
  <cp:lastModifiedBy>Ministry of Education</cp:lastModifiedBy>
  <dcterms:modified xsi:type="dcterms:W3CDTF">2009-06-22T23:29:04Z</dcterms:modified>
  <cp:revision>7</cp:revision>
  <dc:subject/>
  <dc:title>Une journée typique</dc:title>
</cp:coreProperties>
</file>